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066680" y="340128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340128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815360" y="340128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9880" y="137124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13080" y="137124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066680" y="340128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9880" y="340128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13080" y="3401280"/>
            <a:ext cx="23551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15360" y="137124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88840" y="3805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15360" y="137124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340128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5697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536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15360" y="340128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2962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371240"/>
            <a:ext cx="356976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6680" y="3401280"/>
            <a:ext cx="7315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33920" cy="2849040"/>
            <a:chOff x="0" y="4206960"/>
            <a:chExt cx="9133920" cy="28490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31400" cy="654120"/>
            </a:xfrm>
            <a:prstGeom prst="rect">
              <a:avLst/>
            </a:prstGeom>
            <a:gradFill rotWithShape="0">
              <a:gsLst>
                <a:gs pos="0">
                  <a:srgbClr val="9f9f9f"/>
                </a:gs>
                <a:gs pos="50000">
                  <a:srgbClr val="e5e5e5"/>
                </a:gs>
                <a:gs pos="100000">
                  <a:srgbClr val="9f9f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8200" cy="2627280"/>
              <a:chOff x="0" y="4206960"/>
              <a:chExt cx="17082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1880" cy="1043280"/>
                <a:chOff x="76320" y="5460840"/>
                <a:chExt cx="16318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8160" cy="971640"/>
                </a:xfrm>
                <a:custGeom>
                  <a:avLst/>
                  <a:gdLst/>
                  <a:ahLst/>
                  <a:rect l="l" t="t" r="r" b="b"/>
                  <a:pathLst>
                    <a:path w="931" h="612">
                      <a:moveTo>
                        <a:pt x="294" y="156"/>
                      </a:moveTo>
                      <a:lnTo>
                        <a:pt x="301" y="141"/>
                      </a:lnTo>
                      <a:lnTo>
                        <a:pt x="311" y="124"/>
                      </a:lnTo>
                      <a:lnTo>
                        <a:pt x="325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6" y="66"/>
                      </a:lnTo>
                      <a:lnTo>
                        <a:pt x="378" y="56"/>
                      </a:lnTo>
                      <a:lnTo>
                        <a:pt x="392" y="47"/>
                      </a:lnTo>
                      <a:lnTo>
                        <a:pt x="404" y="39"/>
                      </a:lnTo>
                      <a:lnTo>
                        <a:pt x="416" y="32"/>
                      </a:lnTo>
                      <a:lnTo>
                        <a:pt x="430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9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6" y="5"/>
                      </a:lnTo>
                      <a:lnTo>
                        <a:pt x="552" y="4"/>
                      </a:lnTo>
                      <a:lnTo>
                        <a:pt x="574" y="2"/>
                      </a:lnTo>
                      <a:lnTo>
                        <a:pt x="590" y="4"/>
                      </a:lnTo>
                      <a:lnTo>
                        <a:pt x="605" y="5"/>
                      </a:lnTo>
                      <a:lnTo>
                        <a:pt x="620" y="5"/>
                      </a:lnTo>
                      <a:lnTo>
                        <a:pt x="634" y="4"/>
                      </a:lnTo>
                      <a:lnTo>
                        <a:pt x="651" y="2"/>
                      </a:lnTo>
                      <a:lnTo>
                        <a:pt x="667" y="0"/>
                      </a:lnTo>
                      <a:lnTo>
                        <a:pt x="659" y="4"/>
                      </a:lnTo>
                      <a:lnTo>
                        <a:pt x="651" y="8"/>
                      </a:lnTo>
                      <a:lnTo>
                        <a:pt x="644" y="13"/>
                      </a:lnTo>
                      <a:lnTo>
                        <a:pt x="638" y="19"/>
                      </a:lnTo>
                      <a:lnTo>
                        <a:pt x="625" y="19"/>
                      </a:lnTo>
                      <a:lnTo>
                        <a:pt x="612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8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6" y="39"/>
                      </a:lnTo>
                      <a:lnTo>
                        <a:pt x="513" y="43"/>
                      </a:lnTo>
                      <a:lnTo>
                        <a:pt x="501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7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9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7" y="130"/>
                      </a:lnTo>
                      <a:lnTo>
                        <a:pt x="535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40" y="121"/>
                      </a:lnTo>
                      <a:lnTo>
                        <a:pt x="660" y="123"/>
                      </a:lnTo>
                      <a:lnTo>
                        <a:pt x="678" y="124"/>
                      </a:lnTo>
                      <a:lnTo>
                        <a:pt x="696" y="125"/>
                      </a:lnTo>
                      <a:lnTo>
                        <a:pt x="714" y="127"/>
                      </a:lnTo>
                      <a:lnTo>
                        <a:pt x="732" y="128"/>
                      </a:lnTo>
                      <a:lnTo>
                        <a:pt x="751" y="130"/>
                      </a:lnTo>
                      <a:lnTo>
                        <a:pt x="770" y="131"/>
                      </a:lnTo>
                      <a:lnTo>
                        <a:pt x="787" y="133"/>
                      </a:lnTo>
                      <a:lnTo>
                        <a:pt x="809" y="135"/>
                      </a:lnTo>
                      <a:lnTo>
                        <a:pt x="831" y="137"/>
                      </a:lnTo>
                      <a:lnTo>
                        <a:pt x="851" y="139"/>
                      </a:lnTo>
                      <a:lnTo>
                        <a:pt x="883" y="143"/>
                      </a:lnTo>
                      <a:lnTo>
                        <a:pt x="894" y="142"/>
                      </a:lnTo>
                      <a:lnTo>
                        <a:pt x="902" y="143"/>
                      </a:lnTo>
                      <a:lnTo>
                        <a:pt x="912" y="146"/>
                      </a:lnTo>
                      <a:lnTo>
                        <a:pt x="930" y="151"/>
                      </a:lnTo>
                      <a:lnTo>
                        <a:pt x="899" y="146"/>
                      </a:lnTo>
                      <a:lnTo>
                        <a:pt x="885" y="144"/>
                      </a:lnTo>
                      <a:lnTo>
                        <a:pt x="871" y="144"/>
                      </a:lnTo>
                      <a:lnTo>
                        <a:pt x="843" y="146"/>
                      </a:lnTo>
                      <a:lnTo>
                        <a:pt x="823" y="147"/>
                      </a:lnTo>
                      <a:lnTo>
                        <a:pt x="799" y="148"/>
                      </a:lnTo>
                      <a:lnTo>
                        <a:pt x="778" y="148"/>
                      </a:lnTo>
                      <a:lnTo>
                        <a:pt x="758" y="149"/>
                      </a:lnTo>
                      <a:lnTo>
                        <a:pt x="739" y="150"/>
                      </a:lnTo>
                      <a:lnTo>
                        <a:pt x="721" y="148"/>
                      </a:lnTo>
                      <a:lnTo>
                        <a:pt x="699" y="147"/>
                      </a:lnTo>
                      <a:lnTo>
                        <a:pt x="678" y="148"/>
                      </a:lnTo>
                      <a:lnTo>
                        <a:pt x="658" y="150"/>
                      </a:lnTo>
                      <a:lnTo>
                        <a:pt x="641" y="151"/>
                      </a:lnTo>
                      <a:lnTo>
                        <a:pt x="621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5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7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6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2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9" y="235"/>
                      </a:lnTo>
                      <a:lnTo>
                        <a:pt x="506" y="246"/>
                      </a:lnTo>
                      <a:lnTo>
                        <a:pt x="519" y="263"/>
                      </a:lnTo>
                      <a:lnTo>
                        <a:pt x="505" y="256"/>
                      </a:lnTo>
                      <a:lnTo>
                        <a:pt x="487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3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1" y="229"/>
                      </a:lnTo>
                      <a:lnTo>
                        <a:pt x="330" y="232"/>
                      </a:lnTo>
                      <a:lnTo>
                        <a:pt x="341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2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4" y="266"/>
                      </a:lnTo>
                      <a:lnTo>
                        <a:pt x="533" y="271"/>
                      </a:lnTo>
                      <a:lnTo>
                        <a:pt x="551" y="273"/>
                      </a:lnTo>
                      <a:lnTo>
                        <a:pt x="566" y="275"/>
                      </a:lnTo>
                      <a:lnTo>
                        <a:pt x="580" y="279"/>
                      </a:lnTo>
                      <a:lnTo>
                        <a:pt x="598" y="283"/>
                      </a:lnTo>
                      <a:lnTo>
                        <a:pt x="617" y="290"/>
                      </a:lnTo>
                      <a:lnTo>
                        <a:pt x="634" y="297"/>
                      </a:lnTo>
                      <a:lnTo>
                        <a:pt x="643" y="303"/>
                      </a:lnTo>
                      <a:lnTo>
                        <a:pt x="655" y="315"/>
                      </a:lnTo>
                      <a:lnTo>
                        <a:pt x="670" y="329"/>
                      </a:lnTo>
                      <a:lnTo>
                        <a:pt x="681" y="341"/>
                      </a:lnTo>
                      <a:lnTo>
                        <a:pt x="692" y="354"/>
                      </a:lnTo>
                      <a:lnTo>
                        <a:pt x="702" y="367"/>
                      </a:lnTo>
                      <a:lnTo>
                        <a:pt x="712" y="380"/>
                      </a:lnTo>
                      <a:lnTo>
                        <a:pt x="721" y="392"/>
                      </a:lnTo>
                      <a:lnTo>
                        <a:pt x="732" y="405"/>
                      </a:lnTo>
                      <a:lnTo>
                        <a:pt x="744" y="421"/>
                      </a:lnTo>
                      <a:lnTo>
                        <a:pt x="755" y="436"/>
                      </a:lnTo>
                      <a:lnTo>
                        <a:pt x="766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9" y="444"/>
                      </a:lnTo>
                      <a:lnTo>
                        <a:pt x="731" y="434"/>
                      </a:lnTo>
                      <a:lnTo>
                        <a:pt x="714" y="424"/>
                      </a:lnTo>
                      <a:lnTo>
                        <a:pt x="700" y="414"/>
                      </a:lnTo>
                      <a:lnTo>
                        <a:pt x="686" y="406"/>
                      </a:lnTo>
                      <a:lnTo>
                        <a:pt x="673" y="399"/>
                      </a:lnTo>
                      <a:lnTo>
                        <a:pt x="660" y="392"/>
                      </a:lnTo>
                      <a:lnTo>
                        <a:pt x="645" y="384"/>
                      </a:lnTo>
                      <a:lnTo>
                        <a:pt x="631" y="377"/>
                      </a:lnTo>
                      <a:lnTo>
                        <a:pt x="618" y="369"/>
                      </a:lnTo>
                      <a:lnTo>
                        <a:pt x="602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1" y="329"/>
                      </a:lnTo>
                      <a:lnTo>
                        <a:pt x="536" y="321"/>
                      </a:lnTo>
                      <a:lnTo>
                        <a:pt x="521" y="313"/>
                      </a:lnTo>
                      <a:lnTo>
                        <a:pt x="502" y="306"/>
                      </a:lnTo>
                      <a:lnTo>
                        <a:pt x="487" y="301"/>
                      </a:lnTo>
                      <a:lnTo>
                        <a:pt x="471" y="296"/>
                      </a:lnTo>
                      <a:lnTo>
                        <a:pt x="449" y="291"/>
                      </a:lnTo>
                      <a:lnTo>
                        <a:pt x="428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4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5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1" y="354"/>
                      </a:lnTo>
                      <a:lnTo>
                        <a:pt x="461" y="366"/>
                      </a:lnTo>
                      <a:lnTo>
                        <a:pt x="471" y="377"/>
                      </a:lnTo>
                      <a:lnTo>
                        <a:pt x="482" y="390"/>
                      </a:lnTo>
                      <a:lnTo>
                        <a:pt x="495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1" y="458"/>
                      </a:lnTo>
                      <a:lnTo>
                        <a:pt x="536" y="471"/>
                      </a:lnTo>
                      <a:lnTo>
                        <a:pt x="540" y="480"/>
                      </a:lnTo>
                      <a:lnTo>
                        <a:pt x="543" y="494"/>
                      </a:lnTo>
                      <a:lnTo>
                        <a:pt x="545" y="511"/>
                      </a:lnTo>
                      <a:lnTo>
                        <a:pt x="547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1" y="562"/>
                      </a:lnTo>
                      <a:lnTo>
                        <a:pt x="530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3" y="487"/>
                      </a:lnTo>
                      <a:lnTo>
                        <a:pt x="485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1" y="428"/>
                      </a:lnTo>
                      <a:lnTo>
                        <a:pt x="451" y="416"/>
                      </a:lnTo>
                      <a:lnTo>
                        <a:pt x="442" y="405"/>
                      </a:lnTo>
                      <a:lnTo>
                        <a:pt x="430" y="392"/>
                      </a:lnTo>
                      <a:lnTo>
                        <a:pt x="416" y="379"/>
                      </a:lnTo>
                      <a:lnTo>
                        <a:pt x="406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5" y="333"/>
                      </a:lnTo>
                      <a:lnTo>
                        <a:pt x="377" y="321"/>
                      </a:lnTo>
                      <a:lnTo>
                        <a:pt x="370" y="308"/>
                      </a:lnTo>
                      <a:lnTo>
                        <a:pt x="366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4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3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3" y="527"/>
                      </a:lnTo>
                      <a:lnTo>
                        <a:pt x="71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2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8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4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60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1" y="205"/>
                      </a:lnTo>
                      <a:lnTo>
                        <a:pt x="296" y="190"/>
                      </a:lnTo>
                      <a:lnTo>
                        <a:pt x="270" y="183"/>
                      </a:lnTo>
                      <a:lnTo>
                        <a:pt x="241" y="166"/>
                      </a:lnTo>
                      <a:lnTo>
                        <a:pt x="212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4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60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4" y="156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5120" y="5958000"/>
                  <a:ext cx="129960" cy="546120"/>
                </a:xfrm>
                <a:custGeom>
                  <a:avLst/>
                  <a:gdLst/>
                  <a:ahLst/>
                  <a:rect l="l" t="t" r="r" b="b"/>
                  <a:pathLst>
                    <a:path w="82" h="344">
                      <a:moveTo>
                        <a:pt x="44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7" y="59"/>
                      </a:lnTo>
                      <a:lnTo>
                        <a:pt x="80" y="78"/>
                      </a:lnTo>
                      <a:lnTo>
                        <a:pt x="80" y="101"/>
                      </a:lnTo>
                      <a:lnTo>
                        <a:pt x="81" y="116"/>
                      </a:lnTo>
                      <a:lnTo>
                        <a:pt x="80" y="134"/>
                      </a:lnTo>
                      <a:lnTo>
                        <a:pt x="77" y="155"/>
                      </a:lnTo>
                      <a:lnTo>
                        <a:pt x="74" y="174"/>
                      </a:lnTo>
                      <a:lnTo>
                        <a:pt x="68" y="203"/>
                      </a:lnTo>
                      <a:lnTo>
                        <a:pt x="63" y="218"/>
                      </a:lnTo>
                      <a:lnTo>
                        <a:pt x="52" y="237"/>
                      </a:lnTo>
                      <a:lnTo>
                        <a:pt x="39" y="258"/>
                      </a:lnTo>
                      <a:lnTo>
                        <a:pt x="27" y="278"/>
                      </a:lnTo>
                      <a:lnTo>
                        <a:pt x="16" y="296"/>
                      </a:lnTo>
                      <a:lnTo>
                        <a:pt x="7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7" y="184"/>
                      </a:lnTo>
                      <a:lnTo>
                        <a:pt x="33" y="167"/>
                      </a:lnTo>
                      <a:lnTo>
                        <a:pt x="39" y="148"/>
                      </a:lnTo>
                      <a:lnTo>
                        <a:pt x="44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1" y="75"/>
                      </a:lnTo>
                      <a:lnTo>
                        <a:pt x="51" y="54"/>
                      </a:lnTo>
                      <a:lnTo>
                        <a:pt x="52" y="28"/>
                      </a:lnTo>
                      <a:lnTo>
                        <a:pt x="48" y="16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4920" cy="1806840"/>
                </a:xfrm>
                <a:custGeom>
                  <a:avLst/>
                  <a:gdLst/>
                  <a:ahLst/>
                  <a:rect l="l" t="t" r="r" b="b"/>
                  <a:pathLst>
                    <a:path w="192" h="1138">
                      <a:moveTo>
                        <a:pt x="191" y="529"/>
                      </a:moveTo>
                      <a:lnTo>
                        <a:pt x="175" y="760"/>
                      </a:lnTo>
                      <a:lnTo>
                        <a:pt x="159" y="946"/>
                      </a:lnTo>
                      <a:lnTo>
                        <a:pt x="148" y="1083"/>
                      </a:lnTo>
                      <a:lnTo>
                        <a:pt x="151" y="1137"/>
                      </a:lnTo>
                      <a:lnTo>
                        <a:pt x="128" y="1137"/>
                      </a:lnTo>
                      <a:lnTo>
                        <a:pt x="120" y="1058"/>
                      </a:lnTo>
                      <a:lnTo>
                        <a:pt x="117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5" y="510"/>
                      </a:lnTo>
                      <a:lnTo>
                        <a:pt x="76" y="417"/>
                      </a:lnTo>
                      <a:lnTo>
                        <a:pt x="67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9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5" y="268"/>
                      </a:lnTo>
                      <a:lnTo>
                        <a:pt x="94" y="372"/>
                      </a:lnTo>
                      <a:lnTo>
                        <a:pt x="103" y="470"/>
                      </a:lnTo>
                      <a:lnTo>
                        <a:pt x="115" y="603"/>
                      </a:lnTo>
                      <a:lnTo>
                        <a:pt x="126" y="712"/>
                      </a:lnTo>
                      <a:lnTo>
                        <a:pt x="130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5" y="822"/>
                      </a:lnTo>
                      <a:lnTo>
                        <a:pt x="170" y="672"/>
                      </a:lnTo>
                      <a:lnTo>
                        <a:pt x="191" y="529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6b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6b6b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" name=""/>
            <p:cNvGrpSpPr/>
            <p:nvPr/>
          </p:nvGrpSpPr>
          <p:grpSpPr>
            <a:xfrm>
              <a:off x="1440" y="6624720"/>
              <a:ext cx="9132480" cy="431280"/>
              <a:chOff x="1440" y="6624720"/>
              <a:chExt cx="9132480" cy="431280"/>
            </a:xfrm>
          </p:grpSpPr>
          <p:sp>
            <p:nvSpPr>
              <p:cNvPr id="25" name=""/>
              <p:cNvSpPr/>
              <p:nvPr/>
            </p:nvSpPr>
            <p:spPr>
              <a:xfrm>
                <a:off x="1440" y="6624720"/>
                <a:ext cx="9132480" cy="43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" y="11038"/>
                    </a:moveTo>
                    <a:arcTo wR="10800" hR="10800" stAng="10724193" swAng="109010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" y="11038"/>
                    </a:moveTo>
                    <a:arcTo wR="10800" hR="10800" stAng="10724193" swAng="10901098"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3f3f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5560" y="6845400"/>
                <a:ext cx="9080280" cy="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4135320" y="5605560"/>
              <a:ext cx="874800" cy="1011240"/>
              <a:chOff x="4135320" y="5605560"/>
              <a:chExt cx="874800" cy="1011240"/>
            </a:xfrm>
          </p:grpSpPr>
          <p:sp>
            <p:nvSpPr>
              <p:cNvPr id="28" name=""/>
              <p:cNvSpPr/>
              <p:nvPr/>
            </p:nvSpPr>
            <p:spPr>
              <a:xfrm>
                <a:off x="4176720" y="5605560"/>
                <a:ext cx="790560" cy="733320"/>
              </a:xfrm>
              <a:prstGeom prst="ellipse">
                <a:avLst/>
              </a:prstGeom>
              <a:gradFill rotWithShape="0">
                <a:gsLst>
                  <a:gs pos="0">
                    <a:srgbClr val="b8b8b8"/>
                  </a:gs>
                  <a:gs pos="100000">
                    <a:srgbClr val="cece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35320" y="6191280"/>
                <a:ext cx="874800" cy="425520"/>
              </a:xfrm>
              <a:custGeom>
                <a:avLst/>
                <a:gdLst/>
                <a:ahLst/>
                <a:rect l="l" t="t" r="r" b="b"/>
                <a:pathLst>
                  <a:path w="551" h="268">
                    <a:moveTo>
                      <a:pt x="48" y="5"/>
                    </a:moveTo>
                    <a:lnTo>
                      <a:pt x="484" y="5"/>
                    </a:lnTo>
                    <a:lnTo>
                      <a:pt x="484" y="0"/>
                    </a:lnTo>
                    <a:lnTo>
                      <a:pt x="498" y="0"/>
                    </a:lnTo>
                    <a:lnTo>
                      <a:pt x="505" y="14"/>
                    </a:lnTo>
                    <a:lnTo>
                      <a:pt x="495" y="18"/>
                    </a:lnTo>
                    <a:lnTo>
                      <a:pt x="481" y="23"/>
                    </a:lnTo>
                    <a:lnTo>
                      <a:pt x="470" y="23"/>
                    </a:lnTo>
                    <a:lnTo>
                      <a:pt x="467" y="36"/>
                    </a:lnTo>
                    <a:lnTo>
                      <a:pt x="477" y="36"/>
                    </a:lnTo>
                    <a:lnTo>
                      <a:pt x="488" y="36"/>
                    </a:lnTo>
                    <a:lnTo>
                      <a:pt x="498" y="36"/>
                    </a:lnTo>
                    <a:lnTo>
                      <a:pt x="508" y="41"/>
                    </a:lnTo>
                    <a:lnTo>
                      <a:pt x="512" y="54"/>
                    </a:lnTo>
                    <a:lnTo>
                      <a:pt x="502" y="68"/>
                    </a:lnTo>
                    <a:lnTo>
                      <a:pt x="491" y="68"/>
                    </a:lnTo>
                    <a:lnTo>
                      <a:pt x="481" y="68"/>
                    </a:lnTo>
                    <a:lnTo>
                      <a:pt x="470" y="68"/>
                    </a:lnTo>
                    <a:lnTo>
                      <a:pt x="460" y="68"/>
                    </a:lnTo>
                    <a:lnTo>
                      <a:pt x="457" y="81"/>
                    </a:lnTo>
                    <a:lnTo>
                      <a:pt x="470" y="91"/>
                    </a:lnTo>
                    <a:lnTo>
                      <a:pt x="484" y="95"/>
                    </a:lnTo>
                    <a:lnTo>
                      <a:pt x="495" y="95"/>
                    </a:lnTo>
                    <a:lnTo>
                      <a:pt x="505" y="95"/>
                    </a:lnTo>
                    <a:lnTo>
                      <a:pt x="519" y="95"/>
                    </a:lnTo>
                    <a:lnTo>
                      <a:pt x="529" y="95"/>
                    </a:lnTo>
                    <a:lnTo>
                      <a:pt x="540" y="95"/>
                    </a:lnTo>
                    <a:lnTo>
                      <a:pt x="550" y="109"/>
                    </a:lnTo>
                    <a:lnTo>
                      <a:pt x="540" y="122"/>
                    </a:lnTo>
                    <a:lnTo>
                      <a:pt x="529" y="122"/>
                    </a:lnTo>
                    <a:lnTo>
                      <a:pt x="519" y="122"/>
                    </a:lnTo>
                    <a:lnTo>
                      <a:pt x="505" y="122"/>
                    </a:lnTo>
                    <a:lnTo>
                      <a:pt x="495" y="122"/>
                    </a:lnTo>
                    <a:lnTo>
                      <a:pt x="484" y="118"/>
                    </a:lnTo>
                    <a:lnTo>
                      <a:pt x="470" y="118"/>
                    </a:lnTo>
                    <a:lnTo>
                      <a:pt x="457" y="118"/>
                    </a:lnTo>
                    <a:lnTo>
                      <a:pt x="453" y="131"/>
                    </a:lnTo>
                    <a:lnTo>
                      <a:pt x="450" y="145"/>
                    </a:lnTo>
                    <a:lnTo>
                      <a:pt x="467" y="149"/>
                    </a:lnTo>
                    <a:lnTo>
                      <a:pt x="477" y="154"/>
                    </a:lnTo>
                    <a:lnTo>
                      <a:pt x="488" y="154"/>
                    </a:lnTo>
                    <a:lnTo>
                      <a:pt x="498" y="158"/>
                    </a:lnTo>
                    <a:lnTo>
                      <a:pt x="508" y="158"/>
                    </a:lnTo>
                    <a:lnTo>
                      <a:pt x="519" y="158"/>
                    </a:lnTo>
                    <a:lnTo>
                      <a:pt x="519" y="172"/>
                    </a:lnTo>
                    <a:lnTo>
                      <a:pt x="505" y="176"/>
                    </a:lnTo>
                    <a:lnTo>
                      <a:pt x="491" y="176"/>
                    </a:lnTo>
                    <a:lnTo>
                      <a:pt x="477" y="176"/>
                    </a:lnTo>
                    <a:lnTo>
                      <a:pt x="467" y="176"/>
                    </a:lnTo>
                    <a:lnTo>
                      <a:pt x="450" y="176"/>
                    </a:lnTo>
                    <a:lnTo>
                      <a:pt x="436" y="176"/>
                    </a:lnTo>
                    <a:lnTo>
                      <a:pt x="425" y="176"/>
                    </a:lnTo>
                    <a:lnTo>
                      <a:pt x="415" y="176"/>
                    </a:lnTo>
                    <a:lnTo>
                      <a:pt x="419" y="190"/>
                    </a:lnTo>
                    <a:lnTo>
                      <a:pt x="432" y="204"/>
                    </a:lnTo>
                    <a:lnTo>
                      <a:pt x="446" y="204"/>
                    </a:lnTo>
                    <a:lnTo>
                      <a:pt x="457" y="204"/>
                    </a:lnTo>
                    <a:lnTo>
                      <a:pt x="457" y="217"/>
                    </a:lnTo>
                    <a:lnTo>
                      <a:pt x="443" y="222"/>
                    </a:lnTo>
                    <a:lnTo>
                      <a:pt x="429" y="222"/>
                    </a:lnTo>
                    <a:lnTo>
                      <a:pt x="415" y="222"/>
                    </a:lnTo>
                    <a:lnTo>
                      <a:pt x="405" y="222"/>
                    </a:lnTo>
                    <a:lnTo>
                      <a:pt x="394" y="222"/>
                    </a:lnTo>
                    <a:lnTo>
                      <a:pt x="394" y="235"/>
                    </a:lnTo>
                    <a:lnTo>
                      <a:pt x="405" y="240"/>
                    </a:lnTo>
                    <a:lnTo>
                      <a:pt x="394" y="244"/>
                    </a:lnTo>
                    <a:lnTo>
                      <a:pt x="381" y="249"/>
                    </a:lnTo>
                    <a:lnTo>
                      <a:pt x="370" y="249"/>
                    </a:lnTo>
                    <a:lnTo>
                      <a:pt x="360" y="249"/>
                    </a:lnTo>
                    <a:lnTo>
                      <a:pt x="349" y="249"/>
                    </a:lnTo>
                    <a:lnTo>
                      <a:pt x="339" y="249"/>
                    </a:lnTo>
                    <a:lnTo>
                      <a:pt x="329" y="249"/>
                    </a:lnTo>
                    <a:lnTo>
                      <a:pt x="318" y="249"/>
                    </a:lnTo>
                    <a:lnTo>
                      <a:pt x="329" y="258"/>
                    </a:lnTo>
                    <a:lnTo>
                      <a:pt x="318" y="267"/>
                    </a:lnTo>
                    <a:lnTo>
                      <a:pt x="304" y="267"/>
                    </a:lnTo>
                    <a:lnTo>
                      <a:pt x="291" y="267"/>
                    </a:lnTo>
                    <a:lnTo>
                      <a:pt x="273" y="267"/>
                    </a:lnTo>
                    <a:lnTo>
                      <a:pt x="256" y="267"/>
                    </a:lnTo>
                    <a:lnTo>
                      <a:pt x="242" y="267"/>
                    </a:lnTo>
                    <a:lnTo>
                      <a:pt x="228" y="267"/>
                    </a:lnTo>
                    <a:lnTo>
                      <a:pt x="218" y="267"/>
                    </a:lnTo>
                    <a:lnTo>
                      <a:pt x="208" y="267"/>
                    </a:lnTo>
                    <a:lnTo>
                      <a:pt x="218" y="267"/>
                    </a:lnTo>
                    <a:lnTo>
                      <a:pt x="228" y="267"/>
                    </a:lnTo>
                    <a:lnTo>
                      <a:pt x="239" y="267"/>
                    </a:lnTo>
                    <a:lnTo>
                      <a:pt x="239" y="253"/>
                    </a:lnTo>
                    <a:lnTo>
                      <a:pt x="228" y="253"/>
                    </a:lnTo>
                    <a:lnTo>
                      <a:pt x="214" y="253"/>
                    </a:lnTo>
                    <a:lnTo>
                      <a:pt x="204" y="253"/>
                    </a:lnTo>
                    <a:lnTo>
                      <a:pt x="187" y="253"/>
                    </a:lnTo>
                    <a:lnTo>
                      <a:pt x="173" y="249"/>
                    </a:lnTo>
                    <a:lnTo>
                      <a:pt x="159" y="249"/>
                    </a:lnTo>
                    <a:lnTo>
                      <a:pt x="173" y="244"/>
                    </a:lnTo>
                    <a:lnTo>
                      <a:pt x="187" y="244"/>
                    </a:lnTo>
                    <a:lnTo>
                      <a:pt x="197" y="244"/>
                    </a:lnTo>
                    <a:lnTo>
                      <a:pt x="211" y="244"/>
                    </a:lnTo>
                    <a:lnTo>
                      <a:pt x="225" y="244"/>
                    </a:lnTo>
                    <a:lnTo>
                      <a:pt x="235" y="244"/>
                    </a:lnTo>
                    <a:lnTo>
                      <a:pt x="235" y="231"/>
                    </a:lnTo>
                    <a:lnTo>
                      <a:pt x="225" y="226"/>
                    </a:lnTo>
                    <a:lnTo>
                      <a:pt x="211" y="226"/>
                    </a:lnTo>
                    <a:lnTo>
                      <a:pt x="201" y="226"/>
                    </a:lnTo>
                    <a:lnTo>
                      <a:pt x="183" y="226"/>
                    </a:lnTo>
                    <a:lnTo>
                      <a:pt x="169" y="226"/>
                    </a:lnTo>
                    <a:lnTo>
                      <a:pt x="159" y="226"/>
                    </a:lnTo>
                    <a:lnTo>
                      <a:pt x="145" y="226"/>
                    </a:lnTo>
                    <a:lnTo>
                      <a:pt x="131" y="222"/>
                    </a:lnTo>
                    <a:lnTo>
                      <a:pt x="118" y="222"/>
                    </a:lnTo>
                    <a:lnTo>
                      <a:pt x="107" y="222"/>
                    </a:lnTo>
                    <a:lnTo>
                      <a:pt x="90" y="217"/>
                    </a:lnTo>
                    <a:lnTo>
                      <a:pt x="104" y="204"/>
                    </a:lnTo>
                    <a:lnTo>
                      <a:pt x="118" y="204"/>
                    </a:lnTo>
                    <a:lnTo>
                      <a:pt x="131" y="204"/>
                    </a:lnTo>
                    <a:lnTo>
                      <a:pt x="145" y="204"/>
                    </a:lnTo>
                    <a:lnTo>
                      <a:pt x="156" y="204"/>
                    </a:lnTo>
                    <a:lnTo>
                      <a:pt x="166" y="204"/>
                    </a:lnTo>
                    <a:lnTo>
                      <a:pt x="156" y="190"/>
                    </a:lnTo>
                    <a:lnTo>
                      <a:pt x="145" y="190"/>
                    </a:lnTo>
                    <a:lnTo>
                      <a:pt x="131" y="190"/>
                    </a:lnTo>
                    <a:lnTo>
                      <a:pt x="118" y="190"/>
                    </a:lnTo>
                    <a:lnTo>
                      <a:pt x="104" y="190"/>
                    </a:lnTo>
                    <a:lnTo>
                      <a:pt x="90" y="190"/>
                    </a:lnTo>
                    <a:lnTo>
                      <a:pt x="80" y="190"/>
                    </a:lnTo>
                    <a:lnTo>
                      <a:pt x="69" y="190"/>
                    </a:lnTo>
                    <a:lnTo>
                      <a:pt x="48" y="186"/>
                    </a:lnTo>
                    <a:lnTo>
                      <a:pt x="35" y="186"/>
                    </a:lnTo>
                    <a:lnTo>
                      <a:pt x="24" y="186"/>
                    </a:lnTo>
                    <a:lnTo>
                      <a:pt x="14" y="186"/>
                    </a:lnTo>
                    <a:lnTo>
                      <a:pt x="28" y="181"/>
                    </a:lnTo>
                    <a:lnTo>
                      <a:pt x="38" y="181"/>
                    </a:lnTo>
                    <a:lnTo>
                      <a:pt x="48" y="181"/>
                    </a:lnTo>
                    <a:lnTo>
                      <a:pt x="66" y="181"/>
                    </a:lnTo>
                    <a:lnTo>
                      <a:pt x="83" y="181"/>
                    </a:lnTo>
                    <a:lnTo>
                      <a:pt x="93" y="181"/>
                    </a:lnTo>
                    <a:lnTo>
                      <a:pt x="104" y="181"/>
                    </a:lnTo>
                    <a:lnTo>
                      <a:pt x="114" y="181"/>
                    </a:lnTo>
                    <a:lnTo>
                      <a:pt x="125" y="181"/>
                    </a:lnTo>
                    <a:lnTo>
                      <a:pt x="128" y="167"/>
                    </a:lnTo>
                    <a:lnTo>
                      <a:pt x="118" y="158"/>
                    </a:lnTo>
                    <a:lnTo>
                      <a:pt x="100" y="154"/>
                    </a:lnTo>
                    <a:lnTo>
                      <a:pt x="90" y="154"/>
                    </a:lnTo>
                    <a:lnTo>
                      <a:pt x="76" y="154"/>
                    </a:lnTo>
                    <a:lnTo>
                      <a:pt x="62" y="154"/>
                    </a:lnTo>
                    <a:lnTo>
                      <a:pt x="48" y="154"/>
                    </a:lnTo>
                    <a:lnTo>
                      <a:pt x="38" y="154"/>
                    </a:lnTo>
                    <a:lnTo>
                      <a:pt x="28" y="154"/>
                    </a:lnTo>
                    <a:lnTo>
                      <a:pt x="17" y="154"/>
                    </a:lnTo>
                    <a:lnTo>
                      <a:pt x="7" y="149"/>
                    </a:lnTo>
                    <a:lnTo>
                      <a:pt x="21" y="145"/>
                    </a:lnTo>
                    <a:lnTo>
                      <a:pt x="31" y="145"/>
                    </a:lnTo>
                    <a:lnTo>
                      <a:pt x="42" y="140"/>
                    </a:lnTo>
                    <a:lnTo>
                      <a:pt x="55" y="140"/>
                    </a:lnTo>
                    <a:lnTo>
                      <a:pt x="73" y="140"/>
                    </a:lnTo>
                    <a:lnTo>
                      <a:pt x="83" y="140"/>
                    </a:lnTo>
                    <a:lnTo>
                      <a:pt x="97" y="140"/>
                    </a:lnTo>
                    <a:lnTo>
                      <a:pt x="107" y="140"/>
                    </a:lnTo>
                    <a:lnTo>
                      <a:pt x="100" y="127"/>
                    </a:lnTo>
                    <a:lnTo>
                      <a:pt x="90" y="127"/>
                    </a:lnTo>
                    <a:lnTo>
                      <a:pt x="80" y="127"/>
                    </a:lnTo>
                    <a:lnTo>
                      <a:pt x="66" y="127"/>
                    </a:lnTo>
                    <a:lnTo>
                      <a:pt x="55" y="127"/>
                    </a:lnTo>
                    <a:lnTo>
                      <a:pt x="42" y="127"/>
                    </a:lnTo>
                    <a:lnTo>
                      <a:pt x="31" y="118"/>
                    </a:lnTo>
                    <a:lnTo>
                      <a:pt x="31" y="104"/>
                    </a:lnTo>
                    <a:lnTo>
                      <a:pt x="42" y="100"/>
                    </a:lnTo>
                    <a:lnTo>
                      <a:pt x="52" y="100"/>
                    </a:lnTo>
                    <a:lnTo>
                      <a:pt x="66" y="100"/>
                    </a:lnTo>
                    <a:lnTo>
                      <a:pt x="76" y="100"/>
                    </a:lnTo>
                    <a:lnTo>
                      <a:pt x="90" y="100"/>
                    </a:lnTo>
                    <a:lnTo>
                      <a:pt x="100" y="100"/>
                    </a:lnTo>
                    <a:lnTo>
                      <a:pt x="111" y="100"/>
                    </a:lnTo>
                    <a:lnTo>
                      <a:pt x="121" y="100"/>
                    </a:lnTo>
                    <a:lnTo>
                      <a:pt x="125" y="86"/>
                    </a:lnTo>
                    <a:lnTo>
                      <a:pt x="114" y="81"/>
                    </a:lnTo>
                    <a:lnTo>
                      <a:pt x="104" y="81"/>
                    </a:lnTo>
                    <a:lnTo>
                      <a:pt x="86" y="81"/>
                    </a:lnTo>
                    <a:lnTo>
                      <a:pt x="76" y="81"/>
                    </a:lnTo>
                    <a:lnTo>
                      <a:pt x="62" y="81"/>
                    </a:lnTo>
                    <a:lnTo>
                      <a:pt x="52" y="81"/>
                    </a:lnTo>
                    <a:lnTo>
                      <a:pt x="42" y="81"/>
                    </a:lnTo>
                    <a:lnTo>
                      <a:pt x="52" y="72"/>
                    </a:lnTo>
                    <a:lnTo>
                      <a:pt x="66" y="72"/>
                    </a:lnTo>
                    <a:lnTo>
                      <a:pt x="76" y="72"/>
                    </a:lnTo>
                    <a:lnTo>
                      <a:pt x="86" y="72"/>
                    </a:lnTo>
                    <a:lnTo>
                      <a:pt x="90" y="59"/>
                    </a:lnTo>
                    <a:lnTo>
                      <a:pt x="80" y="54"/>
                    </a:lnTo>
                    <a:lnTo>
                      <a:pt x="62" y="54"/>
                    </a:lnTo>
                    <a:lnTo>
                      <a:pt x="52" y="54"/>
                    </a:lnTo>
                    <a:lnTo>
                      <a:pt x="42" y="54"/>
                    </a:lnTo>
                    <a:lnTo>
                      <a:pt x="31" y="54"/>
                    </a:lnTo>
                    <a:lnTo>
                      <a:pt x="21" y="54"/>
                    </a:lnTo>
                    <a:lnTo>
                      <a:pt x="10" y="54"/>
                    </a:lnTo>
                    <a:lnTo>
                      <a:pt x="0" y="54"/>
                    </a:lnTo>
                    <a:lnTo>
                      <a:pt x="7" y="36"/>
                    </a:lnTo>
                    <a:lnTo>
                      <a:pt x="21" y="32"/>
                    </a:lnTo>
                    <a:lnTo>
                      <a:pt x="35" y="32"/>
                    </a:lnTo>
                    <a:lnTo>
                      <a:pt x="48" y="32"/>
                    </a:lnTo>
                    <a:lnTo>
                      <a:pt x="62" y="32"/>
                    </a:lnTo>
                    <a:lnTo>
                      <a:pt x="73" y="32"/>
                    </a:lnTo>
                    <a:lnTo>
                      <a:pt x="83" y="32"/>
                    </a:lnTo>
                    <a:lnTo>
                      <a:pt x="76" y="18"/>
                    </a:lnTo>
                    <a:lnTo>
                      <a:pt x="62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48" y="5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88840" y="3805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empus Sans ITC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20400" indent="-320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1" marL="526680" indent="-1004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2" marL="1217880" indent="-212400">
              <a:spcBef>
                <a:spcPts val="799"/>
              </a:spcBef>
              <a:buClr>
                <a:srgbClr val="000000"/>
              </a:buClr>
              <a:buSzPct val="65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3" marL="1536840" indent="-212400">
              <a:spcBef>
                <a:spcPts val="799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5" marL="1913040" indent="-212400">
              <a:spcBef>
                <a:spcPts val="799"/>
              </a:spcBef>
              <a:buClr>
                <a:srgbClr val="3333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6" marL="1913040" indent="-212400">
              <a:spcBef>
                <a:spcPts val="799"/>
              </a:spcBef>
              <a:buClr>
                <a:srgbClr val="3333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32" name=""/>
          <p:cNvSpPr/>
          <p:nvPr/>
        </p:nvSpPr>
        <p:spPr>
          <a:xfrm>
            <a:off x="482760" y="1162080"/>
            <a:ext cx="8254800" cy="0"/>
          </a:xfrm>
          <a:prstGeom prst="line">
            <a:avLst/>
          </a:prstGeom>
          <a:ln w="507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mbravo@prtc.net" TargetMode="External"/><Relationship Id="rId2" Type="http://schemas.openxmlformats.org/officeDocument/2006/relationships/hyperlink" Target="mailto:padropascua@yahoo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500" spc="-1" strike="noStrike">
                <a:solidFill>
                  <a:srgbClr val="006666"/>
                </a:solidFill>
                <a:latin typeface="Tempus Sans ITC"/>
              </a:rPr>
              <a:t>Evaluation of Educational Programs: Contribution to Education in Puerto Rico</a:t>
            </a:r>
            <a:br>
              <a:rPr sz="4500"/>
            </a:br>
            <a:br>
              <a:rPr sz="4500"/>
            </a:br>
            <a:endParaRPr b="1" lang="en-US" sz="45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2640" y="35809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empus Sans ITC"/>
              </a:rPr>
              <a:t>Milagros Bravo, Ph.D.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empus Sans ITC"/>
              </a:rPr>
              <a:t>University of Puerto Rico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empus Sans ITC"/>
              </a:rPr>
              <a:t>Rio Piedras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079960"/>
            <a:ext cx="5867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Caribbean Association for Evaluation and Research Conference</a:t>
            </a:r>
            <a:br>
              <a:rPr sz="2300"/>
            </a:b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April, 2006</a:t>
            </a:r>
            <a:endParaRPr b="0" lang="en-US" sz="23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3805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Example of Use of Quantitative Methods: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Standardized Tests to Assess Student Achievement</a:t>
            </a: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20400" indent="-32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00"/>
                </a:solidFill>
                <a:latin typeface="Tw Cen MT"/>
              </a:rPr>
              <a:t>Math tests developed by ETS for the DE, administered in all P.R. schools in 2003 &amp; 2004 Spring semesters</a:t>
            </a:r>
            <a:endParaRPr b="1" lang="en-US" sz="3100" spc="-1" strike="noStrike">
              <a:solidFill>
                <a:srgbClr val="333300"/>
              </a:solidFill>
              <a:latin typeface="Tw Cen MT"/>
            </a:endParaRPr>
          </a:p>
          <a:p>
            <a:pPr marL="32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3300"/>
              </a:solidFill>
              <a:latin typeface="Tw Cen MT"/>
            </a:endParaRPr>
          </a:p>
          <a:p>
            <a:pPr marL="320400" indent="-32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00"/>
                </a:solidFill>
                <a:latin typeface="Tw Cen MT"/>
              </a:rPr>
              <a:t>Science test developed by College Board for PR-SSI, administered in AlACiMa schools as pre (Sept.) and post (April) tests in the 2004-05 academic year</a:t>
            </a:r>
            <a:endParaRPr b="1" lang="en-US" sz="31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57150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0"/>
            <a:ext cx="7521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empus Sans ITC"/>
              </a:rPr>
              <a:t>Value Added Baseline (2003-04)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Tempus Sans ITC"/>
              </a:rPr>
              <a:t>on Student Math Achiev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01200" y="228600"/>
            <a:ext cx="885960" cy="124776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43400" y="1587600"/>
            <a:ext cx="45720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8120" y="228600"/>
            <a:ext cx="5638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6666"/>
                </a:solidFill>
                <a:latin typeface="Tempus Sans ITC"/>
              </a:rPr>
              <a:t>Pre and Post Science Achievement </a:t>
            </a:r>
            <a:br>
              <a:rPr sz="2800"/>
            </a:br>
            <a:r>
              <a:rPr b="1" lang="es-PR" sz="2800" spc="-1" strike="noStrike">
                <a:solidFill>
                  <a:srgbClr val="006666"/>
                </a:solidFill>
                <a:latin typeface="Tempus Sans ITC"/>
              </a:rPr>
              <a:t>Results in AlACiMa School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448920" y="152280"/>
            <a:ext cx="803160" cy="1197000"/>
          </a:xfrm>
          <a:prstGeom prst="rect">
            <a:avLst/>
          </a:pr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598760"/>
          <a:ext cx="8469360" cy="40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598760"/>
                    <a:ext cx="84693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905120" y="4876920"/>
          <a:ext cx="6366960" cy="492120"/>
        </p:xfrm>
        <a:graphic>
          <a:graphicData uri="http://schemas.openxmlformats.org/drawingml/2006/table">
            <a:tbl>
              <a:tblPr/>
              <a:tblGrid>
                <a:gridCol w="2122200"/>
                <a:gridCol w="2122560"/>
                <a:gridCol w="21222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re n=3,755 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os n= 3,535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re n=4,220 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os n=3,957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re n=4,547 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200" spc="-1" strike="noStrike">
                          <a:solidFill>
                            <a:srgbClr val="333300"/>
                          </a:solidFill>
                          <a:latin typeface="Tw Cen MT"/>
                        </a:rPr>
                        <a:t>Pos n= 4,131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64960" y="5703840"/>
            <a:ext cx="896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empus Sans ITC"/>
              </a:rPr>
              <a:t>Example of Usage of Qualitative Methods: Case Studies</a:t>
            </a:r>
            <a:endParaRPr b="1" lang="en-US" sz="44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1960" y="3733920"/>
            <a:ext cx="60195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28560" indent="-62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two elementary (k-6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one intermediate (7-9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one secondary (7-12)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628560" indent="-62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one high school (10-12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62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129" name=""/>
          <p:cNvSpPr/>
          <p:nvPr/>
        </p:nvSpPr>
        <p:spPr>
          <a:xfrm>
            <a:off x="1595160" y="3116160"/>
            <a:ext cx="5952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00"/>
                </a:solidFill>
                <a:latin typeface="Tw Cen MT"/>
              </a:rPr>
              <a:t>Conducted in five schools:</a:t>
            </a:r>
            <a:endParaRPr b="0" lang="en-US" sz="35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1523880"/>
            <a:ext cx="9144000" cy="4680000"/>
            <a:chOff x="0" y="1523880"/>
            <a:chExt cx="9144000" cy="4680000"/>
          </a:xfrm>
        </p:grpSpPr>
        <p:pic>
          <p:nvPicPr>
            <p:cNvPr id="131" name="pr_750x" descr="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91440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324480" y="2981520"/>
              <a:ext cx="403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2703600"/>
              <a:ext cx="38124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675600"/>
              <a:ext cx="403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3120120"/>
              <a:ext cx="327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3606120"/>
              <a:ext cx="47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R" sz="4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62920" y="3745080"/>
              <a:ext cx="32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3816000"/>
              <a:ext cx="457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0280" y="2009520"/>
              <a:ext cx="533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2703600"/>
              <a:ext cx="60984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0" y="2217600"/>
              <a:ext cx="38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2424600"/>
              <a:ext cx="380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5800" y="5499360"/>
              <a:ext cx="203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Tempus Sans ITC"/>
                </a:rPr>
                <a:t>Case Study Sites</a:t>
              </a: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371600" y="3429000"/>
            <a:ext cx="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57200"/>
            <a:ext cx="883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empus Sans ITC"/>
              </a:rPr>
              <a:t>Five Schools Across the Island</a:t>
            </a:r>
            <a:endParaRPr b="0" lang="en-US" sz="3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5410080"/>
            <a:ext cx="2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76720"/>
            <a:ext cx="1752480" cy="30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Tw Cen MT"/>
              </a:rPr>
              <a:t>San German 7-12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962520"/>
            <a:ext cx="1524240" cy="3045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Tw Cen MT"/>
              </a:rPr>
              <a:t>Humacao K-3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581280"/>
            <a:ext cx="1371600" cy="304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Tw Cen MT"/>
              </a:rPr>
              <a:t>Ponce 4-6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175248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Tw Cen MT"/>
              </a:rPr>
              <a:t>Dorado 7-9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3623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Tw Cen MT"/>
              </a:rPr>
              <a:t>Bayamón 10-12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429000"/>
            <a:ext cx="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1905120"/>
            <a:ext cx="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057400"/>
            <a:ext cx="2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05320"/>
            <a:ext cx="2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400" spc="-1" strike="noStrike">
                <a:solidFill>
                  <a:srgbClr val="ff66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80265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Data gathering techniques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2057400" cy="179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1440000">
            <a:off x="2576160" y="2479680"/>
            <a:ext cx="2459160" cy="254952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2819520" cy="2646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 rot="19635000">
            <a:off x="4107600" y="2373480"/>
            <a:ext cx="2459160" cy="2808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95880" y="3809880"/>
            <a:ext cx="281628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2900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038480"/>
            <a:ext cx="2971800" cy="3682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lassroom observation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648320"/>
            <a:ext cx="3581640" cy="3682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K-6 students’ group interview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181480"/>
            <a:ext cx="2667240" cy="3682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7-12 students’ survey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6324480"/>
            <a:ext cx="5181480" cy="36828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Evidence of student learning in work sample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3657600" cy="91692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Teacher interviews on learning achieved in PD activities and transfer to classroom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752480"/>
            <a:ext cx="2361960" cy="6426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chool Culture Questionnaire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Highlight of Case Study Results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857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School Cultures: </a:t>
            </a: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Schools showed mixed to fundamentally</a:t>
            </a: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collegial structures with good potential for change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291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291600" indent="-2916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Support for reforms: Teachers felt they had limited support from principals and peers to implement reforms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291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Educational practices</a:t>
            </a: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: Wide range of practices observed from mostly active to mostly passive; student reports tended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 </a:t>
            </a:r>
            <a:r>
              <a:rPr b="1" lang="en-US" sz="2600" spc="-1" strike="noStrike">
                <a:solidFill>
                  <a:srgbClr val="333300"/>
                </a:solidFill>
                <a:latin typeface="Tw Cen MT"/>
              </a:rPr>
              <a:t>to be consistent with observations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empus Sans ITC"/>
              </a:rPr>
              <a:t>Highlight of Case Study Results (cont.)</a:t>
            </a:r>
            <a:endParaRPr b="1" lang="en-US" sz="36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20400" indent="-320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Teacher learning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: Teachers reported they learned M&amp;S content in their classrooms and were able to transfer some of it to the classrooms.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20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20400" indent="-320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Student learning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: Assessment of work samples showed medium-low levels of student learning with understanding, defined as capacity to relate, apply and explain concepts and make learning process their own.</a:t>
            </a: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marL="320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66"/>
                </a:solidFill>
                <a:latin typeface="Tempus Sans ITC"/>
              </a:rPr>
              <a:t>Position</a:t>
            </a:r>
            <a:r>
              <a:rPr b="1" i="1" lang="en-US" sz="4200" spc="-1" strike="noStrike">
                <a:solidFill>
                  <a:srgbClr val="006666"/>
                </a:solidFill>
                <a:latin typeface="Tempus Sans ITC"/>
              </a:rPr>
              <a:t> </a:t>
            </a:r>
            <a:r>
              <a:rPr b="1" lang="en-US" sz="4200" spc="-1" strike="noStrike">
                <a:solidFill>
                  <a:srgbClr val="006666"/>
                </a:solidFill>
                <a:latin typeface="Tempus Sans ITC"/>
              </a:rPr>
              <a:t>on Individual vs. Collaborative Responsibility</a:t>
            </a:r>
            <a:endParaRPr b="1" lang="en-US" sz="42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00"/>
                </a:solidFill>
                <a:latin typeface="Tw Cen MT"/>
              </a:rPr>
              <a:t>Collaborative nature</a:t>
            </a: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: 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Evaluation group with representation from participating higher education institutions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9136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Rationale for Collaborative Approach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7240" indent="-32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Representation from each institution enhances pertinence of evaluation for institutions and their allied schools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Status of evaluators as faculty in each institution facilitates evaluation activities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Evaluators’ relationship with the project’s institutional Co-PI’s promotes use of evaluation results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27240" indent="-32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Possible limitation regarding less systematization of evaluation procedures is overcome through monthly coordination meetings and development of standard evaluation activities’ guidelines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lvl="1" marL="53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552600"/>
            <a:ext cx="853452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6666"/>
                </a:solidFill>
                <a:latin typeface="Tempus Sans ITC"/>
              </a:rPr>
              <a:t>Presentation Outline</a:t>
            </a:r>
            <a:r>
              <a:rPr b="1" lang="es-PR" sz="40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Different ecological levels at which evaluations in education are carried out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Description of evaluation of a large educational reform project (AlACiMa/PRMSP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Description of approach used in the evaluation in   the context of debates in the evaluation field.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Position on Insider-Outsider Debate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57120" y="243828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3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Insiders with outside help: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Most evaluation tasks carried our by insiders, in consultation with outsiders. 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Some tasks carried out by external evaluators, like: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-35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- writing of case studies reports, 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-35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- study of organizational processes and 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institutionalization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-35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- analysis and reporting of standardized tests data 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using a value added approach.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empus Sans ITC"/>
              </a:rPr>
              <a:t>Rationale for the Combination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empus Sans ITC"/>
              </a:rPr>
              <a:t>of Internal and External Evaluators</a:t>
            </a:r>
            <a:endParaRPr b="1" lang="en-US" sz="32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Existent evidence is far from pointing out with clarity if the internal or external evaluations are of better technical quality.  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There are thus few reasons to categorically prefer external or internal evaluations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It is no longer considered necessary for evaluators to maintain a distance from program personnel in order to avoid biases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Rather it is important to have a clear understanding of their potential biases and deal with them professionally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Tempus Sans ITC"/>
              </a:rPr>
              <a:t>Position on Active vs. Passive Role on Use of Evaluation Results</a:t>
            </a:r>
            <a:endParaRPr b="1" lang="en-US" sz="38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Active role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  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Constant promotion of instrumental use through feedback to project leaders to improve the project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Conceptual use also promoted via publications and presentations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876312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empus Sans ITC"/>
              </a:rPr>
              <a:t>Rationale for Active Rol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empus Sans ITC"/>
              </a:rPr>
              <a:t>in Promoting Use of Results</a:t>
            </a:r>
            <a:endParaRPr b="1" lang="en-US" sz="32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The worth of evaluations must be partly judged by their utility; program evaluation is worthless if findings are not used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Promotion of use is thus one of the main responsibilities of evaluators.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Technical quality is not the only issue to consider in an evaluation, since the utility of the evaluation could be of similar importance.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44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Evaluators must thus balance technical rigor with utility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empus Sans ITC"/>
              </a:rPr>
              <a:t>Summary of Positions Adopted in the </a:t>
            </a:r>
            <a:br>
              <a:rPr sz="3000"/>
            </a:br>
            <a:r>
              <a:rPr b="1" lang="en-US" sz="3000" spc="-1" strike="noStrike">
                <a:solidFill>
                  <a:srgbClr val="006666"/>
                </a:solidFill>
                <a:latin typeface="Tempus Sans ITC"/>
              </a:rPr>
              <a:t>PR-CETP and PR-MSP Evaluations</a:t>
            </a:r>
            <a:endParaRPr b="1" lang="en-US" sz="3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Paradigm: </a:t>
            </a:r>
            <a:r>
              <a:rPr b="1" i="1" lang="en-US" sz="2600" spc="-1" strike="noStrike">
                <a:solidFill>
                  <a:srgbClr val="333300"/>
                </a:solidFill>
                <a:latin typeface="Tw Cen MT"/>
                <a:ea typeface="Arial"/>
              </a:rPr>
              <a:t>Pluralistic epistemology</a:t>
            </a: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 that supports the combination of qualitative and quantitative methods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Responsibility for execution:  Collaborative evaluation group comprised of representatives from all participating institutions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Position of evaluators:  Combination of internal and external evaluation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Role of evaluators in promoti</a:t>
            </a:r>
            <a:r>
              <a:rPr b="1" i="1" lang="en-US" sz="2600" spc="-1" strike="noStrike">
                <a:solidFill>
                  <a:srgbClr val="333300"/>
                </a:solidFill>
                <a:latin typeface="Tw Cen MT"/>
                <a:ea typeface="Arial"/>
              </a:rPr>
              <a:t>ng </a:t>
            </a: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use of evaluation results: </a:t>
            </a:r>
            <a:r>
              <a:rPr b="1" i="1" lang="es-ES" sz="2600" spc="-1" strike="noStrike">
                <a:solidFill>
                  <a:srgbClr val="333300"/>
                </a:solidFill>
                <a:latin typeface="Tw Cen MT"/>
              </a:rPr>
              <a:t>Active role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6666"/>
                </a:solidFill>
                <a:latin typeface="Tempus Sans ITC"/>
              </a:rPr>
              <a:t>Contribution to Education of </a:t>
            </a:r>
            <a:br>
              <a:rPr sz="3200"/>
            </a:br>
            <a:r>
              <a:rPr b="1" lang="es-PR" sz="3200" spc="-1" strike="noStrike">
                <a:solidFill>
                  <a:srgbClr val="006666"/>
                </a:solidFill>
                <a:latin typeface="Tempus Sans ITC"/>
              </a:rPr>
              <a:t>Evaluation of Reform Projects</a:t>
            </a:r>
            <a:endParaRPr b="1" lang="en-US" sz="32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9960" indent="-309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w Cen MT"/>
              </a:rPr>
              <a:t>Rigorous and useful evaluations of educational reform projects enable: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lvl="1" marL="788400" indent="-37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Improvement of reform projects as they are conceptualized and implemented to enhance their effectiveness (formative use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lvl="1" marL="788400" indent="-37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 </a:t>
            </a: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Identification of effective reforms that can significantly contribute to school improvement and better student learning (summative use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6666"/>
                </a:solidFill>
                <a:latin typeface="Tempus Sans ITC"/>
              </a:rPr>
              <a:t>Contacts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37339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4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Milagros Bravo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Evaluator, 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AlACiMa Project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 u="sng">
                <a:solidFill>
                  <a:srgbClr val="ff0000"/>
                </a:solidFill>
                <a:uFillTx/>
                <a:latin typeface="Tw Cen MT"/>
                <a:hlinkClick r:id="rId1"/>
              </a:rPr>
              <a:t>mbravo@prtc.net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787-764-0000 ext. 7224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523880"/>
            <a:ext cx="388620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Pascua Padró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Assistant Evaluator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AlACiMa Project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 u="sng">
                <a:solidFill>
                  <a:srgbClr val="ff0000"/>
                </a:solidFill>
                <a:uFillTx/>
                <a:latin typeface="Tw Cen MT"/>
                <a:hlinkClick r:id="rId2"/>
              </a:rPr>
              <a:t>padropascua@yahoo.com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600" spc="-1" strike="noStrike">
                <a:solidFill>
                  <a:srgbClr val="333300"/>
                </a:solidFill>
                <a:latin typeface="Tw Cen MT"/>
              </a:rPr>
              <a:t>787-764-0000 ext. 7233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Evaluation in Education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00"/>
                </a:solidFill>
                <a:latin typeface="Tw Cen MT"/>
              </a:rPr>
              <a:t>Ecological levels</a:t>
            </a:r>
            <a:endParaRPr b="1" lang="en-US" sz="30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Student evaluation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Educational personnel evaluation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Curriculum evaluation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Evaluation of schools, institutions and academic programs (e.g., accreditation process) 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3300"/>
                </a:solidFill>
                <a:latin typeface="Tw Cen MT"/>
              </a:rPr>
              <a:t>Evaluation of educational reform projects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00"/>
                </a:solidFill>
                <a:latin typeface="Tw Cen MT"/>
              </a:rPr>
              <a:t>Evaluation of educational systems</a:t>
            </a:r>
            <a:endParaRPr b="1" lang="en-US" sz="26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empus Sans ITC"/>
              </a:rPr>
              <a:t>Evaluation of an Educational Reform Project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Tw Cen MT"/>
              </a:rPr>
              <a:t>Alianza para el Aprendizaje en Ciencias y Matemáticas (AlACiMa)/ Puerto 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Rico Math and Science Partnership (PRMSP)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Principal Investigator: Josefina Arce, Ph.D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Funding agency: National Science Foundation 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344520" indent="-3445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00"/>
                </a:solidFill>
                <a:latin typeface="Tw Cen MT"/>
              </a:rPr>
              <a:t>P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urpose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lvl="1" marL="687240" indent="-2286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w Cen MT"/>
              </a:rPr>
              <a:t>To empower teachers and schools through a school- university partnership to enhance K-12 students’ math and science learning with understanding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empus Sans ITC"/>
              </a:rPr>
              <a:t>Evaluation Questions</a:t>
            </a:r>
            <a:endParaRPr b="1" lang="en-US" sz="4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4080" indent="-334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Tw Cen MT"/>
              </a:rPr>
              <a:t>Student learning</a:t>
            </a:r>
            <a:r>
              <a:rPr b="1" i="1" lang="en-US" sz="2000" spc="-1" strike="noStrike">
                <a:solidFill>
                  <a:srgbClr val="333300"/>
                </a:solidFill>
                <a:latin typeface="Tw Cen MT"/>
              </a:rPr>
              <a:t>: 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Has AlACiMa significantly enhanced the achievement levels in M&amp;S of all K-12 students in the participating schools? (q. 1)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-334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Tw Cen MT"/>
              </a:rPr>
              <a:t>Teacher performance</a:t>
            </a:r>
            <a:r>
              <a:rPr b="1" i="1" lang="en-US" sz="2000" spc="-1" strike="noStrike">
                <a:solidFill>
                  <a:srgbClr val="333300"/>
                </a:solidFill>
                <a:latin typeface="Tw Cen MT"/>
              </a:rPr>
              <a:t>: 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Has AlACiMa increased and sustained the number and quality of K-12 pre-service and in-service mathematics and science teachers? (q. 2)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-334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Tw Cen MT"/>
              </a:rPr>
              <a:t>Knowledge base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: Has AlACiMa improved the knowledge base of the education system in Puerto Rico regarding M&amp;S teaching and learning processes through assessment, research and evaluation? (q. 3)</a:t>
            </a: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Tw Cen MT"/>
            </a:endParaRPr>
          </a:p>
          <a:p>
            <a:pPr marL="334080" indent="-334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Tw Cen MT"/>
              </a:rPr>
              <a:t>Sustainable partnership</a:t>
            </a:r>
            <a:r>
              <a:rPr b="1" lang="en-US" sz="2000" spc="-1" strike="noStrike">
                <a:solidFill>
                  <a:srgbClr val="333300"/>
                </a:solidFill>
                <a:latin typeface="Tw Cen MT"/>
              </a:rPr>
              <a:t>: Has AlACiMa created sustainable K-20  partnerships that are actively involved in K-12 M&amp;S education? (q. 4)</a:t>
            </a:r>
            <a:r>
              <a:rPr b="1" lang="en-US" sz="2800" spc="-1" strike="noStrike">
                <a:solidFill>
                  <a:srgbClr val="333300"/>
                </a:solidFill>
                <a:latin typeface="Tw Cen MT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3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949400"/>
            <a:ext cx="1575000" cy="522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School culture 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(q. 4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1575000" cy="9144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Educational practices 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(qs. 2 &amp; 3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657600"/>
            <a:ext cx="1733760" cy="7570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S&amp;M content &amp; pedagogy learning  (q. 2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702320"/>
            <a:ext cx="1575000" cy="6267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S&amp;M learning (q.1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rot="10784400">
            <a:off x="1751760" y="5565600"/>
            <a:ext cx="946440" cy="906480"/>
          </a:xfrm>
          <a:custGeom>
            <a:avLst/>
            <a:gdLst>
              <a:gd name="textAreaLeft" fmla="*/ -360 w 946440"/>
              <a:gd name="textAreaRight" fmla="*/ 946440 w 946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326" stAng="10800000" swAng="5400000"/>
                <a:lnTo>
                  <a:pt x="15112" y="3834"/>
                </a:lnTo>
                <a:lnTo>
                  <a:pt x="15112" y="0"/>
                </a:lnTo>
                <a:lnTo>
                  <a:pt x="21600" y="6079"/>
                </a:lnTo>
                <a:lnTo>
                  <a:pt x="15112" y="12158"/>
                </a:lnTo>
                <a:lnTo>
                  <a:pt x="15112" y="8324"/>
                </a:lnTo>
                <a:lnTo>
                  <a:pt x="12427" y="8324"/>
                </a:lnTo>
                <a:arcTo wR="7937" hR="3836" stAng="16200000" swAng="-5400000"/>
                <a:lnTo>
                  <a:pt x="449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266840"/>
            <a:ext cx="947880" cy="55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 Condensed"/>
              </a:rPr>
              <a:t>160 K-12 School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219320"/>
            <a:ext cx="1074600" cy="600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 Condensed"/>
              </a:rPr>
              <a:t>4 Higher Education Institutions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100240"/>
            <a:ext cx="83016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625840"/>
            <a:ext cx="1447920" cy="419040"/>
          </a:xfrm>
          <a:custGeom>
            <a:avLst/>
            <a:gdLst>
              <a:gd name="textAreaLeft" fmla="*/ 186480 w 1447920"/>
              <a:gd name="textAreaRight" fmla="*/ 1261440 w 1447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2782" y="0"/>
                </a:moveTo>
                <a:lnTo>
                  <a:pt x="18818" y="0"/>
                </a:lnTo>
                <a:lnTo>
                  <a:pt x="18818" y="8107"/>
                </a:lnTo>
                <a:lnTo>
                  <a:pt x="20204" y="8107"/>
                </a:lnTo>
                <a:lnTo>
                  <a:pt x="20204" y="5500"/>
                </a:lnTo>
                <a:lnTo>
                  <a:pt x="21600" y="10800"/>
                </a:lnTo>
                <a:lnTo>
                  <a:pt x="20204" y="16100"/>
                </a:lnTo>
                <a:lnTo>
                  <a:pt x="20204" y="13493"/>
                </a:lnTo>
                <a:lnTo>
                  <a:pt x="18818" y="13493"/>
                </a:lnTo>
                <a:lnTo>
                  <a:pt x="18818" y="21600"/>
                </a:lnTo>
                <a:lnTo>
                  <a:pt x="2782" y="21600"/>
                </a:lnTo>
                <a:lnTo>
                  <a:pt x="2782" y="13493"/>
                </a:lnTo>
                <a:lnTo>
                  <a:pt x="1396" y="13493"/>
                </a:lnTo>
                <a:lnTo>
                  <a:pt x="1396" y="16100"/>
                </a:lnTo>
                <a:lnTo>
                  <a:pt x="0" y="10800"/>
                </a:lnTo>
                <a:lnTo>
                  <a:pt x="1396" y="5500"/>
                </a:lnTo>
                <a:lnTo>
                  <a:pt x="1396" y="8107"/>
                </a:lnTo>
                <a:lnTo>
                  <a:pt x="2782" y="8107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w Cen MT"/>
                <a:ea typeface="Times New Roman"/>
              </a:rPr>
              <a:t>Partnership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95480" y="2328840"/>
          <a:ext cx="947520" cy="2924280"/>
        </p:xfrm>
        <a:graphic>
          <a:graphicData uri="http://schemas.openxmlformats.org/drawingml/2006/table">
            <a:tbl>
              <a:tblPr/>
              <a:tblGrid>
                <a:gridCol w="94752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chool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&amp;M Class-room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84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&amp;M Teacher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tudent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0" y="20509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53200" y="2322360"/>
          <a:ext cx="1122120" cy="3090960"/>
        </p:xfrm>
        <a:graphic>
          <a:graphicData uri="http://schemas.openxmlformats.org/drawingml/2006/table">
            <a:tbl>
              <a:tblPr/>
              <a:tblGrid>
                <a:gridCol w="112212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TEM &amp; Education Schools &amp; Depts.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STEM &amp; Education Classroom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6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w Cen MT Condensed"/>
                          <a:ea typeface="Times New Roman"/>
                        </a:rPr>
                        <a:t>Future S&amp;M Teachers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6896160" y="1905120"/>
            <a:ext cx="1790640" cy="8730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Commitment to change &amp; excellence (q. 4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5407200"/>
            <a:ext cx="2819520" cy="12222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Knowledge base: S &amp; M teaching, learning &amp; assessment processes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Educational reforms 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(q. 3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433680"/>
            <a:ext cx="1447920" cy="10620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School- University </a:t>
            </a:r>
            <a:r>
              <a:rPr b="1" lang="en-US" sz="1200" spc="-1" strike="noStrike">
                <a:solidFill>
                  <a:srgbClr val="333300"/>
                </a:solidFill>
                <a:latin typeface="Tw Cen MT"/>
              </a:rPr>
              <a:t>collaboration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(q.4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96160" y="3200400"/>
            <a:ext cx="1562040" cy="8398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Educational practices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 </a:t>
            </a: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(q. 2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6160" y="4343400"/>
            <a:ext cx="1562040" cy="9050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00"/>
                </a:solidFill>
                <a:latin typeface="Tw Cen MT"/>
              </a:rPr>
              <a:t>S&amp;M content &amp; pedagogy learning (q.2)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0" idx="6"/>
          </p:cNvCxnSpPr>
          <p:nvPr/>
        </p:nvCxnSpPr>
        <p:spPr>
          <a:xfrm>
            <a:off x="2422440" y="2211120"/>
            <a:ext cx="473760" cy="37044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99" name=""/>
          <p:cNvCxnSpPr>
            <a:stCxn id="81" idx="6"/>
          </p:cNvCxnSpPr>
          <p:nvPr/>
        </p:nvCxnSpPr>
        <p:spPr>
          <a:xfrm>
            <a:off x="2422440" y="3123720"/>
            <a:ext cx="473760" cy="15948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100" name=""/>
          <p:cNvCxnSpPr>
            <a:stCxn id="82" idx="6"/>
          </p:cNvCxnSpPr>
          <p:nvPr/>
        </p:nvCxnSpPr>
        <p:spPr>
          <a:xfrm>
            <a:off x="2352600" y="4036680"/>
            <a:ext cx="543600" cy="12132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101" name=""/>
          <p:cNvCxnSpPr>
            <a:stCxn id="83" idx="6"/>
          </p:cNvCxnSpPr>
          <p:nvPr/>
        </p:nvCxnSpPr>
        <p:spPr>
          <a:xfrm flipV="1">
            <a:off x="2422440" y="4917600"/>
            <a:ext cx="473760" cy="9936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102" name=""/>
          <p:cNvCxnSpPr>
            <a:stCxn id="93" idx="2"/>
          </p:cNvCxnSpPr>
          <p:nvPr/>
        </p:nvCxnSpPr>
        <p:spPr>
          <a:xfrm flipH="1">
            <a:off x="6474960" y="2341440"/>
            <a:ext cx="411840" cy="51696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103" name=""/>
          <p:cNvCxnSpPr>
            <a:stCxn id="96" idx="2"/>
          </p:cNvCxnSpPr>
          <p:nvPr/>
        </p:nvCxnSpPr>
        <p:spPr>
          <a:xfrm flipH="1">
            <a:off x="6474960" y="3620880"/>
            <a:ext cx="411840" cy="22284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cxnSp>
        <p:nvCxnSpPr>
          <p:cNvPr id="104" name=""/>
          <p:cNvCxnSpPr>
            <a:stCxn id="97" idx="2"/>
          </p:cNvCxnSpPr>
          <p:nvPr/>
        </p:nvCxnSpPr>
        <p:spPr>
          <a:xfrm flipH="1">
            <a:off x="6474960" y="4795560"/>
            <a:ext cx="411840" cy="59400"/>
          </a:xfrm>
          <a:prstGeom prst="straightConnector1">
            <a:avLst/>
          </a:prstGeom>
          <a:ln w="9360">
            <a:solidFill>
              <a:srgbClr val="333300"/>
            </a:solidFill>
            <a:miter/>
          </a:ln>
        </p:spPr>
      </p:cxnSp>
      <p:sp>
        <p:nvSpPr>
          <p:cNvPr id="105" name=""/>
          <p:cNvSpPr/>
          <p:nvPr/>
        </p:nvSpPr>
        <p:spPr>
          <a:xfrm rot="10800000">
            <a:off x="6781320" y="5567040"/>
            <a:ext cx="947880" cy="904680"/>
          </a:xfrm>
          <a:custGeom>
            <a:avLst/>
            <a:gdLst>
              <a:gd name="textAreaLeft" fmla="*/ 0 w 947880"/>
              <a:gd name="textAreaRight" fmla="*/ 948240 w 9478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326" stAng="10800000" swAng="5400000"/>
                <a:lnTo>
                  <a:pt x="15112" y="3834"/>
                </a:lnTo>
                <a:lnTo>
                  <a:pt x="15112" y="0"/>
                </a:lnTo>
                <a:lnTo>
                  <a:pt x="21600" y="6079"/>
                </a:lnTo>
                <a:lnTo>
                  <a:pt x="15112" y="12158"/>
                </a:lnTo>
                <a:lnTo>
                  <a:pt x="15112" y="8324"/>
                </a:lnTo>
                <a:lnTo>
                  <a:pt x="12427" y="8324"/>
                </a:lnTo>
                <a:arcTo wR="7937" hR="3836" stAng="16200000" swAng="-5400000"/>
                <a:lnTo>
                  <a:pt x="4490" y="2160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empus Sans ITC"/>
              </a:rPr>
              <a:t>Elements Focused on the Evaluation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048120"/>
            <a:ext cx="0" cy="380880"/>
          </a:xfrm>
          <a:prstGeom prst="line">
            <a:avLst/>
          </a:prstGeom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empus Sans ITC"/>
              </a:rPr>
              <a:t>Approach Used in the Evaluation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Tempus Sans ITC"/>
              </a:rPr>
              <a:t>in the Context of Debates in the Field</a:t>
            </a:r>
            <a:endParaRPr b="1" lang="en-US" sz="28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3640" indent="-323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Paradigm shift:  From positivism to alternative epistemologies that support use of quantitative, qualitative or mixed methods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23640" indent="-323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Responsibility for execution of evaluation:  Individual vs. collaborative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23640" indent="-323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Position of evaluator: Internal vs. external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  <a:p>
            <a:pPr marL="323640" indent="-323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Role of evaluator in promoti</a:t>
            </a:r>
            <a:r>
              <a:rPr b="1" i="1" lang="en-US" sz="2800" spc="-1" strike="noStrike">
                <a:solidFill>
                  <a:srgbClr val="333300"/>
                </a:solidFill>
                <a:latin typeface="Tw Cen MT"/>
                <a:ea typeface="Arial"/>
              </a:rPr>
              <a:t>ng </a:t>
            </a:r>
            <a:r>
              <a:rPr b="1" i="1" lang="en-US" sz="2800" spc="-1" strike="noStrike">
                <a:solidFill>
                  <a:srgbClr val="333300"/>
                </a:solidFill>
                <a:latin typeface="Tw Cen MT"/>
              </a:rPr>
              <a:t>use of results: </a:t>
            </a:r>
            <a:r>
              <a:rPr b="1" i="1" lang="es-ES" sz="2800" spc="-1" strike="noStrike">
                <a:solidFill>
                  <a:srgbClr val="333300"/>
                </a:solidFill>
                <a:latin typeface="Tw Cen MT"/>
              </a:rPr>
              <a:t>Active vs. passive role</a:t>
            </a:r>
            <a:endParaRPr b="1" lang="en-US" sz="28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empus Sans ITC"/>
              </a:rPr>
              <a:t>Position Adopted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empus Sans ITC"/>
              </a:rPr>
              <a:t>on Paradigm Shift</a:t>
            </a:r>
            <a:endParaRPr b="1" lang="en-US" sz="48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Pluralistic epistemology: 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Use of quantitative, qualitative 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w Cen MT"/>
              </a:rPr>
              <a:t>and mixed methods.</a:t>
            </a:r>
            <a:endParaRPr b="1" lang="en-US" sz="32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2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Tempus Sans ITC"/>
              </a:rPr>
              <a:t>Rationale for adoption of pluralistic epistemology</a:t>
            </a:r>
            <a:endParaRPr b="1" lang="en-US" sz="3000" spc="-1" strike="noStrike">
              <a:solidFill>
                <a:srgbClr val="006666"/>
              </a:solidFill>
              <a:latin typeface="Tempus Sans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40976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6280" indent="-296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Physicists have concluded that, at the microphysics level, observations are a function of the phenomenon itself as well as of the theoretical and methodological schemas used to study it.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Extending this to the human sciences, it can be concluded that there is not a single theoretical perspective, nor a single method that leads us to approach human phenomena with more certainty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29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w Cen MT"/>
              </a:rPr>
              <a:t>Comparison among knowledge constructions, derived from usage of different methods, can lead to more accurate, trustworthy  and deep understanding of human phenomena</a:t>
            </a:r>
            <a:endParaRPr b="1" lang="en-US" sz="2400" spc="-1" strike="noStrike">
              <a:solidFill>
                <a:srgbClr val="3333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6T21:50:02Z</dcterms:created>
  <dc:creator>Milagros Bravo</dc:creator>
  <dc:description/>
  <cp:keywords>Copa Marina Maestros julio95</cp:keywords>
  <dc:language>en-US</dc:language>
  <cp:lastModifiedBy>Dr. Bravo</cp:lastModifiedBy>
  <cp:lastPrinted>1995-07-18T00:07:46Z</cp:lastPrinted>
  <dcterms:modified xsi:type="dcterms:W3CDTF">2008-06-13T13:23:35Z</dcterms:modified>
  <cp:revision>107</cp:revision>
  <dc:subject>Maestros investigadores 1995</dc:subject>
  <dc:title>La Investigación en la Sala de Clases</dc:title>
</cp:coreProperties>
</file>